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3F84-4902-42B1-9FF6-7B39F11CA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066760" y="324000"/>
            <a:ext cx="2941920" cy="2206440"/>
          </a:xfrm>
          <a:prstGeom prst="rect">
            <a:avLst/>
          </a:prstGeom>
          <a:ln w="0">
            <a:noFill/>
          </a:ln>
        </p:spPr>
      </p:sp>
      <p:sp>
        <p:nvSpPr>
          <p:cNvPr id="132"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то отметил однажды, что двенадцать учеников были простыми мужчинами, способными силой Божьей совершать экстраординарные 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394920"/>
            <a:ext cx="5486400" cy="806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истос всегда с глубоким уважением ценил женщин. Даже тех женщин, которые считались отбросами общества, а некоторых из них не уважали даже апостолы. Следовательно, благодаря примеру Иисуса Христа, поднявшему статус женщин, не удивительно, что они стали выдающимися в служении в ранне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нь Пятидесятницы, когда родилась церковь Нового Завета, женщины были главными апостолами, совершавшими молитвы (Деян. 1:12-14). Некоторые женщины известны добрыми делами, а другие пониманием доктрин и духовными дарами (Деян. 18:26, 21:8,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е послание Иоанна было адресовано выдающимся женщинам в одной из церквей, которая находилась на его попечении. Апостол Павел, который иногда не понимал и обвинял мужской шовинизм, постоянно совершал служение с женщинами (Фил.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004840" y="468360"/>
            <a:ext cx="2846520" cy="2135160"/>
          </a:xfrm>
          <a:prstGeom prst="rect">
            <a:avLst/>
          </a:prstGeom>
          <a:ln w="0">
            <a:noFill/>
          </a:ln>
        </p:spPr>
      </p:sp>
      <p:sp>
        <p:nvSpPr>
          <p:cNvPr id="1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заметил это благодаря контрасту, когда Христианская церковь возросла и евангелие стало приносить плоды, одним из видимых результатов христианства была попытка сделать одежду женщины благопристойной и возвысить статус женщины. Тертуллиан пишет, что мужчины-язычники постоянно жаловались: «После того, как она (жена) стала христианкой, она стала беднее одеваться». Очевидно, мужчины-язычники осознавали, что христианство рассматривает женщин не только, как сексуальный символ или предмет дешевой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первые женщины христианки возвысили достоинство женщин на такую беспрецедентную высоту, что даже язычники это осознали. Крисостом, красноречивый проповедник четвертого века пишет, что один из его учителей, языческий философ по имени Либанус однажды сказал: «Какие же они женщины-христи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антин обратился в христианство в 312 г., и христианство получило легальный статус в Риме и вскоре стало главенствующей религией в Европе. Одним из ранних результатов христианства является полностью новый статус женщин. Рим принял законы, признающие права женщин. Было пересмотрено семейное законодательство, таким образом, просто партнерство мужчины и женщины приобрело незаконный статус. И, если мы изучим данный вопрос тщательнее, мы увидим, что на протяжении всей истории везде, где распространялось евангелие, происходили подобные перемен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59120" y="395280"/>
            <a:ext cx="2939760" cy="2206800"/>
          </a:xfrm>
          <a:prstGeom prst="rect">
            <a:avLst/>
          </a:prstGeom>
          <a:ln w="0">
            <a:noFill/>
          </a:ln>
        </p:spPr>
      </p:sp>
      <p:sp>
        <p:nvSpPr>
          <p:cNvPr id="152" name="PlaceHolder 2"/>
          <p:cNvSpPr>
            <a:spLocks noGrp="1"/>
          </p:cNvSpPr>
          <p:nvPr>
            <p:ph type="body"/>
          </p:nvPr>
        </p:nvSpPr>
        <p:spPr>
          <a:xfrm>
            <a:off x="685800" y="270000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70000" y="395280"/>
            <a:ext cx="2845080" cy="2135160"/>
          </a:xfrm>
          <a:prstGeom prst="rect">
            <a:avLst/>
          </a:prstGeom>
          <a:ln w="0">
            <a:noFill/>
          </a:ln>
        </p:spPr>
      </p:sp>
      <p:sp>
        <p:nvSpPr>
          <p:cNvPr id="15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руковод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теперь рассмотрим Библейские примеры руководств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12840" y="179280"/>
            <a:ext cx="2560680" cy="1920960"/>
          </a:xfrm>
          <a:prstGeom prst="rect">
            <a:avLst/>
          </a:prstGeom>
          <a:ln w="0">
            <a:noFill/>
          </a:ln>
        </p:spPr>
      </p:sp>
      <p:sp>
        <p:nvSpPr>
          <p:cNvPr id="156" name="PlaceHolder 2"/>
          <p:cNvSpPr>
            <a:spLocks noGrp="1"/>
          </p:cNvSpPr>
          <p:nvPr>
            <p:ph type="body"/>
          </p:nvPr>
        </p:nvSpPr>
        <p:spPr>
          <a:xfrm>
            <a:off x="685800" y="2123640"/>
            <a:ext cx="5695920" cy="561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Деворы (Судей 4-5 глав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ерихон был разрушен 200 лет назад. Израильтяне разбрелись по стране как стая саранчи, сметая все на своем пути, но кое-как местные жители старались выживать и, подобно сорной траве с крепкими корнями, их идолопоклонство все еще распространялось и начало пошатывать израильскую вер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ав и Иисус Навин были израильскими рабами, побежденными войнами. На протяжении двадцати лет они были безжалостно угнетаемы Иавином, царем Ханаанским. Его главного военачальника звали Сисара. У Сисары было 900 железных колесниц, которые наводили ужас на израильтян. В наши дни эти колесницы были бы равны девятистам огромным армейским танкам. Сисера, возможно, чувствовал себя вполне уверенно и самонадеянно, особенно, с тех пор, как во главе Израиля встала женщина – Девор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была пророчицей, которая судила под своей пальмовой ветвью, как вы догадываетесь – под ветвью Деворы. Странно смотреть на 900 огромных танков против маленькой женщины, сидящей под пальмовым деревом, которая, казалось бы, должна видеть, что исход сражения уже предреше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которая жила в нескольких милях на северо-запад от Иерихона, была судьей над Израилем. Люди в Израиле приходили к ней, чтобы разрешить свои вопросы. Она была руководителем, которая не теряла веры, не смотря на грустные обстоятельства, окружавши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она вызвала на суд Варака, иудея с севера, и сказала ему отчетливо: повелевает [тебе] Господь Бог Израилев: пойди, взойди на гору Фавор и возьми с собою десять тысяч человек из сынов Неффалимовых и сынов Завулоновых; </a:t>
            </a:r>
            <a:br>
              <a:rPr sz="1200"/>
            </a:br>
            <a:r>
              <a:rPr b="0" lang="ru-RU" sz="1200" spc="-1" strike="noStrike">
                <a:solidFill>
                  <a:srgbClr val="000000"/>
                </a:solidFill>
                <a:latin typeface="Arial"/>
              </a:rPr>
              <a:t>а Я приведу к тебе, к потоку Киссону, Сисару, военачальника Иавинова, и колесницы его и многолюдное [войско] его, и предам его в руки твои, Суд. 4:6-7.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85800" y="611280"/>
            <a:ext cx="5486400" cy="72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ак любой мужчина в Израиле, Варак испугался Сисары и отказался повиноваться приказу Деворы. Он согласился только при одном условии: если Девора пойдет с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рочица ответила: Пойти пойду с тобою; только [знай, что] не тебе уже будет слава на сем пути, в который ты идешь; но в руки женщины предаст Господь Сисару, Суд.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 условием и пророчеством Девора пошла с Вараком. Тем временем Сисара услышал об их плане и направил войска и колесницы к потоку Киссону, чтобы подавить восстание. Но его мощь обратилась против него, потому что Господь привел в замешательство его колесницы. Внезапно 900 колесниц стали огромной помехой. Они быстро начали увязать в грязи. Поэтому стрелки войск Варака с легкостью поднялись на гору Табор и убили всех, включая Сиса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87480" y="420840"/>
            <a:ext cx="3227400" cy="2422440"/>
          </a:xfrm>
          <a:prstGeom prst="rect">
            <a:avLst/>
          </a:prstGeom>
          <a:ln w="0">
            <a:noFill/>
          </a:ln>
        </p:spPr>
      </p:sp>
      <p:sp>
        <p:nvSpPr>
          <p:cNvPr id="15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 бы вы реагировали на месте Сисары? На месте Деворы? На месте Варака?</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2880" y="395280"/>
            <a:ext cx="2747880" cy="2062080"/>
          </a:xfrm>
          <a:prstGeom prst="rect">
            <a:avLst/>
          </a:prstGeom>
          <a:ln w="0">
            <a:noFill/>
          </a:ln>
        </p:spPr>
      </p:sp>
      <p:sp>
        <p:nvSpPr>
          <p:cNvPr id="161"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го боялся Варак? Почему он не пошел без Дево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00080" y="395280"/>
            <a:ext cx="2751120" cy="2063880"/>
          </a:xfrm>
          <a:prstGeom prst="rect">
            <a:avLst/>
          </a:prstGeom>
          <a:ln w="0">
            <a:noFill/>
          </a:ln>
        </p:spPr>
      </p:sp>
      <p:sp>
        <p:nvSpPr>
          <p:cNvPr id="163"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Олдамы, 4 Цар. 22:14-20, 2 Пар. 34:14-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Иосия поручил Шафане пересчитать деньги и распределить их среди мужчин, которые работали в храме, а те должны были раздать деньги своим работникам Когда Шафан показал собранные деньги, Хелкия, первосвященник, рассказал ему, что он нашел книгу закона, которая находилась в храме. Шафан прочитал книгу, затем вернулся к Иосии и рассказал ему о книге и о чем она говорит. Когда Иосия услышал ужасные пророчества книги, он обезумел и рассказал своим близким советникам: «пойдите, вопросите Господа за меня и за оставшихся у Израиля и за Иуду» – найти то, что они должны были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что вместо, того чтобы последовать наставлению царя советники направились к пророчице Олдаме. Олдама изучила Слово. Она, возможно, пришла в недоумение от ужасных предсказаний, которые рассказали советники, но я верю, что ее голос был непоколебим. Возможно, ужасные опасности открыли ей глаза. Она вспомнила убитых пророков, которые предсказывали и гадали. Она подумала о царях, которые гадали по звездам; о людях, которые следовали их приме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конечно, знала о подлых деталях прошлого. Она выдержала пятидесяти пяти летнее правление Монасии, который был одним из самых ужасный царей. Она вдохновилась только что произошедшими реформами царя Иосии. Однако спустя тридцать пять лет после пророчицы Олдамы Израиль был взят в рабство Вавилоном, и все его города была разрушен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сказала советникам, что поскольку Иосия воспринял весть столь серьезно, если он продолжит следовать за Божьим руководством, он тихо умрет и будет погребен с миром. Очень печально, что Иосия не до конца выслушал Бога, и в последствии был убит в битве с царем Егип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ники принесли весть Олдамы обратно Иосии, и он начал наводить порядок в доме, расчищая все языческие места всесожжения, сексуального поклонения, жертвенники поклонения идолам и алтарь Молоху, которому люди приносили в жертву сыновей и дочерей. Как невероятно низко пал народ Израильский.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89200" y="395280"/>
            <a:ext cx="3038400" cy="2279520"/>
          </a:xfrm>
          <a:prstGeom prst="rect">
            <a:avLst/>
          </a:prstGeom>
          <a:ln w="0">
            <a:noFill/>
          </a:ln>
        </p:spPr>
      </p:sp>
      <p:sp>
        <p:nvSpPr>
          <p:cNvPr id="16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Вопросы для дискуссии</a:t>
            </a: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841400" y="250920"/>
            <a:ext cx="2940120" cy="2206440"/>
          </a:xfrm>
          <a:prstGeom prst="rect">
            <a:avLst/>
          </a:prstGeom>
          <a:ln w="0">
            <a:noFill/>
          </a:ln>
        </p:spPr>
      </p:sp>
      <p:sp>
        <p:nvSpPr>
          <p:cNvPr id="168" name="PlaceHolder 2"/>
          <p:cNvSpPr>
            <a:spLocks noGrp="1"/>
          </p:cNvSpPr>
          <p:nvPr>
            <p:ph type="body"/>
          </p:nvPr>
        </p:nvSpPr>
        <p:spPr>
          <a:xfrm>
            <a:off x="685440" y="2555640"/>
            <a:ext cx="583884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ариам (Исх. 2:1-10, 15:20-21, Чис. 21:1-1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совсем молоденькой девушкой, когда отнесла своего брата Моисея в корзинке к реке Нил и спасла ему жизнь. Она превосходно заботилась об осуществлении Божьего плана по спасению жизни Моисея и его удивительном  посвящении как руководителя. Как молодая женщина она показала ожидаемые качества повиновения и послушания Богу, которые являются условием для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дети Израиля, наконец-то, были избавлены от ига Египта, Мариам вела израильских женщина, прославляя Бога за чудесное поражение египтян у Красного моря. «Взяла Мариам пророчица, сестра Ааронова, в руку свою тимпан, и вышли за нею все женщины с тимпанами и ликованием», Исх.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крепка и исполнена Богом для руководства. Поэтому однажды она решила осудить Моисея, а особенно, его жизнь. Мариам и Аарон выразили недовольство тем, что Моисей женился на женщине из Куша. Грех Мариам был очень схож с грехом гордости. Она думала, что ее жизнь лучше, чем жизнь Моисея. Что эта чужестранка знала о страданиях в Египте? Мариам подвергалась жестокости и дискриминации от рук надзирателей фараоновых. Она каждый день видела страдания своей семьи и всего народа. Что эта чужестранка знала о страданиях и боли? Она жила привилегированно в доме своего богатого отца. У нее нет даже и представления о жизни тех, кто испытал жестокость и рабств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услышал все недовольства и тот час же ответил всем троим: Моисею, Аарону и Мариами – выйдите из скинии. Затем Бог сошел в облаке и остановился у входа. Господь сказал им, что Он избрал руководителем Моисея и недоволен тем, что двое других осуждают его. Как только Господь удалился, Он поразил Мариам проказ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52800" y="395280"/>
            <a:ext cx="2751120" cy="2063880"/>
          </a:xfrm>
          <a:prstGeom prst="rect">
            <a:avLst/>
          </a:prstGeom>
          <a:ln w="0">
            <a:noFill/>
          </a:ln>
        </p:spPr>
      </p:sp>
      <p:sp>
        <p:nvSpPr>
          <p:cNvPr id="170"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70000" y="755640"/>
            <a:ext cx="2845080" cy="2135160"/>
          </a:xfrm>
          <a:prstGeom prst="rect">
            <a:avLst/>
          </a:prstGeom>
          <a:ln w="0">
            <a:noFill/>
          </a:ln>
        </p:spPr>
      </p:sp>
      <p:sp>
        <p:nvSpPr>
          <p:cNvPr id="17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24200" y="324000"/>
            <a:ext cx="2846160" cy="2135160"/>
          </a:xfrm>
          <a:prstGeom prst="rect">
            <a:avLst/>
          </a:prstGeom>
          <a:ln w="0">
            <a:noFill/>
          </a:ln>
        </p:spPr>
      </p:sp>
      <p:sp>
        <p:nvSpPr>
          <p:cNvPr id="17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295360" y="324000"/>
            <a:ext cx="2556000" cy="1917720"/>
          </a:xfrm>
          <a:prstGeom prst="rect">
            <a:avLst/>
          </a:prstGeom>
          <a:ln w="0">
            <a:noFill/>
          </a:ln>
        </p:spPr>
      </p:sp>
      <p:sp>
        <p:nvSpPr>
          <p:cNvPr id="176" name="PlaceHolder 2"/>
          <p:cNvSpPr>
            <a:spLocks noGrp="1"/>
          </p:cNvSpPr>
          <p:nvPr>
            <p:ph type="body"/>
          </p:nvPr>
        </p:nvSpPr>
        <p:spPr>
          <a:xfrm>
            <a:off x="685440" y="2339640"/>
            <a:ext cx="576756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елхолы (1 Цар. 18:20-29, 19:11-17, 2 Цар. 6:16-2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любила Давида, красивого царя. Саул, ее отец, был очень доволен. Саул хотел использовать ее любовь к Давиду в своих целях. Поэтому он позволил им жениться, а затем попытался использовать Мелхолу в качестве внутреннего агента, надеясь, что она будет больше служить отцу, нежели Давиду. И Давид, у которого было скромное происхождение, наслаждался тем, что обладал королевой всей своей жиз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упоминает несколько раз о том, насколько сильно Мелхола любила Давида. Давид был музыкантом, играющим на арфе для ее отца. Возможно, это была первая романтическая музыка на земле. После того, как Давид победил Голиафа с помощью одних только камней, не только Мелхола, но весь Израиль полюбил его. Но только лишь ради одной любви Мелхолы Давид уничтожил двести филистимлян. Он очень хотел стать мужем царевн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они поженились, Мелхола спасла жизнь Давиду, когда Саул хотел убить его. Используя свое воображение и творческие способности, она помогла мужу убежать через окно, затем накрыла его постель и претворилась, будто он болен.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Мелхола спасла жизнь Давиду, он к ней не вернулся. Они жили раздельно. Возможно, она думала, что Давид придумает способ, как защитить ее от ярости отца, и была разочарована, когда время проходило, а никаких известий от Давида не был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е разочарование переросло в горечь от того, что Давид так и не вернулся к ней. Мелхола чувствовала предательство и, возможно, была потрясена. И ее мечты полностью разбились, когда отец за ее верность Давиду заставил Мелхолу выйти замуж за Фалтию, которого она не любила. Прошло время, она наконец-то построила отношения со своим новым мужем, который любил ее. Но затем брат Мелхолы силой забрал ее к себе. Библия говорит, что с плачем Фалтия последовал за ней в землю Бахурим. Но Авенир попросил его идти домой, и тот возвратился, 2 Цар. 3: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девять лет с того момента, когда она помогла Давиду выпрыгнуть в окно и убежать, теперь она снова стоит у окна, смотрит на Давида и обижается на н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вого окна Мелхола – дочь Саула, у второго окна – жена Давида. Священное Писание говорит, что она разговаривала с ним с отвращением. Молчание между Мелхолой и Давидом, возможно, распространилось как холодный лед в зимнюю стужу. Царица-руководитель закончила свои дни в одиночестве, у нее не было ни семьи, ни детей, которые могли бы поддержать ее.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98800" y="324000"/>
            <a:ext cx="2877840" cy="2160360"/>
          </a:xfrm>
          <a:prstGeom prst="rect">
            <a:avLst/>
          </a:prstGeom>
          <a:ln w="0">
            <a:noFill/>
          </a:ln>
        </p:spPr>
      </p:sp>
      <p:sp>
        <p:nvSpPr>
          <p:cNvPr id="179"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62000" y="611280"/>
            <a:ext cx="2845080" cy="2135160"/>
          </a:xfrm>
          <a:prstGeom prst="rect">
            <a:avLst/>
          </a:prstGeom>
          <a:ln w="0">
            <a:noFill/>
          </a:ln>
        </p:spPr>
      </p:sp>
      <p:sp>
        <p:nvSpPr>
          <p:cNvPr id="181"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341440" y="395280"/>
            <a:ext cx="2463840" cy="1847880"/>
          </a:xfrm>
          <a:prstGeom prst="rect">
            <a:avLst/>
          </a:prstGeom>
          <a:ln w="0">
            <a:noFill/>
          </a:ln>
        </p:spPr>
      </p:sp>
      <p:sp>
        <p:nvSpPr>
          <p:cNvPr id="183" name="PlaceHolder 2"/>
          <p:cNvSpPr>
            <a:spLocks noGrp="1"/>
          </p:cNvSpPr>
          <p:nvPr>
            <p:ph type="body"/>
          </p:nvPr>
        </p:nvSpPr>
        <p:spPr>
          <a:xfrm>
            <a:off x="685800" y="2410920"/>
            <a:ext cx="569592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Прискиллы Деян. 18-19, Рим. 16:3-4, 1 Кор. 16:19, 2 Тим.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Клавдий выгнал евреев из Рима в 49 году н.э., потому что он хотел прекратить всякие споры об Иисусе Христе, Прискилла и Акила переселились в Корин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инф был торговым центром, известным высоким уровнем преступности. Не так уж и много возможностей для распространения убеждений для новых верующих. Но тем не менее, именно в этот город Бог поместил Прискиллу и ее мужа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год в Коринф приехал апостол Павел. Он, возможно, познакомился с супругами на торговой площади. Они шили палатки. Прискилла и Акила пригласили Павла остановиться в их доме и трудиться с ними. Павел проповедовал Евангелие и пробуждал как веру, так и оппозицию. Через полторга года руководители иудеев в Коринфе попросили его предстать перед советом. После того, как обязательства были выполнены, Павел направил паруса в Ефес, взяв с собой Прискиллу и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Прискиллы в обучении Аполлоса и руководстве церковью поразительна. Вместе с Акилой она была лучшим другом апостола Павла, помогая ему организовать церковь и рискуя жизнью ради поставленных Павлом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упоминает об этой супружеской паре в одном из своих писем, но не детализирует обстоятельства. Прискилла помогла организовать раннюю церковь, не смотря на атмосферу сильной враждебности, рискуя своей жизнью ради целей Евангелия, которое она так любила.</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989000" y="468360"/>
            <a:ext cx="2845080" cy="2135160"/>
          </a:xfrm>
          <a:prstGeom prst="rect">
            <a:avLst/>
          </a:prstGeom>
          <a:ln w="0">
            <a:noFill/>
          </a:ln>
        </p:spPr>
      </p:sp>
      <p:sp>
        <p:nvSpPr>
          <p:cNvPr id="136"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особенности женщин в Библ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глуп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слаб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неуравновеш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абсолютно не привлек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корее всего, эти женщины покажутся нам абсолютно обычными. Многие из них были женщинами нижнего класса, такими же, как апостол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211480" y="324000"/>
            <a:ext cx="2560680" cy="1919160"/>
          </a:xfrm>
          <a:prstGeom prst="rect">
            <a:avLst/>
          </a:prstGeom>
          <a:ln w="0">
            <a:noFill/>
          </a:ln>
        </p:spPr>
      </p:sp>
      <p:sp>
        <p:nvSpPr>
          <p:cNvPr id="185"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28680" y="395280"/>
            <a:ext cx="2654280" cy="1990800"/>
          </a:xfrm>
          <a:prstGeom prst="rect">
            <a:avLst/>
          </a:prstGeom>
          <a:ln w="0">
            <a:noFill/>
          </a:ln>
        </p:spPr>
      </p:sp>
      <p:sp>
        <p:nvSpPr>
          <p:cNvPr id="187"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070000" y="468360"/>
            <a:ext cx="2845080" cy="2135160"/>
          </a:xfrm>
          <a:prstGeom prst="rect">
            <a:avLst/>
          </a:prstGeom>
          <a:ln w="0">
            <a:noFill/>
          </a:ln>
        </p:spPr>
      </p:sp>
      <p:sp>
        <p:nvSpPr>
          <p:cNvPr id="189"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историй о женщинах-руководителях в библейские времена мы учимся ценным урокам, как поддерживать и обучать современных женщин. Библейские женщины проявили мужество, способности и духовную силу. Бог призвал их также, как Он призывает женщин сегодня, чтобы они могли предложить свои дары в руководящем служении в Его сла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984320" y="826920"/>
            <a:ext cx="2654280" cy="1990800"/>
          </a:xfrm>
          <a:prstGeom prst="rect">
            <a:avLst/>
          </a:prstGeom>
          <a:ln w="0">
            <a:noFill/>
          </a:ln>
        </p:spPr>
      </p:sp>
      <p:sp>
        <p:nvSpPr>
          <p:cNvPr id="138" name="PlaceHolder 2"/>
          <p:cNvSpPr>
            <a:spLocks noGrp="1"/>
          </p:cNvSpPr>
          <p:nvPr>
            <p:ph type="body"/>
          </p:nvPr>
        </p:nvSpPr>
        <p:spPr>
          <a:xfrm>
            <a:off x="685800" y="2846160"/>
            <a:ext cx="5486400" cy="5686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060640" y="611280"/>
            <a:ext cx="2847960" cy="2135160"/>
          </a:xfrm>
          <a:prstGeom prst="rect">
            <a:avLst/>
          </a:prstGeom>
          <a:ln w="0">
            <a:noFill/>
          </a:ln>
        </p:spPr>
      </p:sp>
      <p:sp>
        <p:nvSpPr>
          <p:cNvPr id="14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Рааф, женщину легкого пове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единственным исключением является лишь Ева. Она была создана с небольшими преимуществами, если сравнивать ее с другими женщинами. Она была сотворена совершенной и довольно неординарной. Она была создана руками Творца, чтобы быть чистым и девственным идеалом женского рода. Она общалась с Богом лично. А также она стала живым примером, как Бог может покрыть и искупить любые наши ошибки и сделать каждую из нас неординарной в Свою славу, вместо наших ошибок.</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63600" y="324000"/>
            <a:ext cx="2459160" cy="1846080"/>
          </a:xfrm>
          <a:prstGeom prst="rect">
            <a:avLst/>
          </a:prstGeom>
          <a:ln w="0">
            <a:noFill/>
          </a:ln>
        </p:spPr>
      </p:sp>
      <p:sp>
        <p:nvSpPr>
          <p:cNvPr id="142"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и библейские женщины-руководители напоминают нам как о падении, так и о потенциале. Одна из уникальных характерных черт Библии это способ возвеличивания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метили ли вы, что вместо того, чтобы унижать или недооценивать женщин, Священное Писание зачастую выражает уважение к ним, Священное Писание облагораживает их роли в обществе и семье. Библия подчеркивает важность их влияния. Из первой главы Библии мы узнаем, что женщина наравне с мужчиной обладает печатью и образом Божьим. Жены рассматриваются как партнеры и надежные спутники своих мужей, а не рабыни или предмет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когда Господь давал десять заповедей, Он поручил детям уважать обоих родителей: и отца, и мать. В настоящее время в нашей культуре это кажется не удивительным, мы полагаем, что такое положение вещей соответствует здравому смыслу и правильно. Однако, в те далекие времена в языческой культуре, когда существовал жесткий патриархат, такой подход представляется революционной концепцией. Язычники-мужчины управляли домами очень жестко, а женщины им подчи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ященное Писание в действительности очень революционно и заставляет задуматься, когда оно наделяет женщину  особой честью (1 Петр. 3:7). Священное Писание поручает мужчинам любить своих жен жертвенной любовью, как Христос любит церковь, даже, если такая любовь стоит им жизни (Еф. 5:25-31).</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685800" y="755640"/>
            <a:ext cx="5486400" cy="77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щательное изучение библейских повествований патриархов показывает нам, насколько глубоко они всегда уважали своих жен. Истории Сары, Ребекки и Рахили, описанные в книге Бытие, рассказывают нам как об их мужьях, так и о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сестра Моисея и Аарона, была пророчицей и псалмопевцем. И в книге Михея 6:4 Бог воздает ей славу за верное сопровождение братьев, и говорит о ней как об одном из трех руководителей во время Ис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также была пророчицей и судьей в Израиле до учреждения монархии. Когда Соломон (мудрейший из людей) стал царем, он воздал честь своей матери: встав, когда она зашла в его присутствие и поклонился перед ней, прежде чем она села на трон (3 Цар. 2: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00240" y="395280"/>
            <a:ext cx="2460600" cy="1846440"/>
          </a:xfrm>
          <a:prstGeom prst="rect">
            <a:avLst/>
          </a:prstGeom>
          <a:ln w="0">
            <a:noFill/>
          </a:ln>
        </p:spPr>
      </p:sp>
      <p:sp>
        <p:nvSpPr>
          <p:cNvPr id="145" name="PlaceHolder 2"/>
          <p:cNvSpPr>
            <a:spLocks noGrp="1"/>
          </p:cNvSpPr>
          <p:nvPr>
            <p:ph type="body"/>
          </p:nvPr>
        </p:nvSpPr>
        <p:spPr>
          <a:xfrm>
            <a:off x="620280" y="2339640"/>
            <a:ext cx="5767560" cy="58309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11480" y="250920"/>
            <a:ext cx="2560680" cy="1919160"/>
          </a:xfrm>
          <a:prstGeom prst="rect">
            <a:avLst/>
          </a:prstGeom>
          <a:ln w="0">
            <a:noFill/>
          </a:ln>
        </p:spPr>
      </p:sp>
      <p:sp>
        <p:nvSpPr>
          <p:cNvPr id="147" name="PlaceHolder 2"/>
          <p:cNvSpPr>
            <a:spLocks noGrp="1"/>
          </p:cNvSpPr>
          <p:nvPr>
            <p:ph type="body"/>
          </p:nvPr>
        </p:nvSpPr>
        <p:spPr>
          <a:xfrm>
            <a:off x="685800" y="2195640"/>
            <a:ext cx="569592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асты в ис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владели землей в Израиле (Чис. 27:8, Пр. 31:16). Это противоречит положению женщин в культурах, где они грубо унижены и обесценены. Женщины в языческих обществах в библейские времена ценились чуть выше, чем живот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екоторые из хорошо известных Греческих философов, принадлежавшие великим умам своей эпохи, учили, что женщины являются второстепенными творениями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ликой Римской Империи, возможно, возносившейся над предхристианской цивилизацией, женщины обычно были личным предметом своих мужей или отцов, их статус был чуть выше, чем статус раб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ая религия мотивировала и поддерживала обесценивание женщин еще больше. Греческая и Римская мифология рассказывала о своих богинях, таких как Диана и Афродита, но эти богини не поднимали статус женщин в обществе выше. Абсурдно, но реальность была абсолютно обратной. В большинстве храмов, посвященных богиням, служили проститутки, женщины прислуживали как жрицы, которые продавали себя за деньги. Существует предположение, что они осуществляли некоторого рода религиозное таи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ие божества мужского рода совершали вульгарные религиозные церемонии, включая эротические сексуальные церемонии, пьяные оргии в храме, гомосексуальную практику и что самое ужасное - жертвоприношение людей. Почему нам необходимо обо всем этом напомнить, когда мы обсуждаем тему женщин-руководителей в церкви в 21 веке? Потому что христианство зародилось в мире, когда Римская и Еврейская культуры перемешались, а христианство возвысило статус женщин на беспрецедентную выс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3C890-8BA4-4824-B395-D75FFA1C2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9DA77-C39B-4737-B2FB-776222B5F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380D5-B862-44D9-957E-204540194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081C5-18FE-40ED-BDC8-AC3966487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9AE69-EF91-4C47-A4BA-3A78B925A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60B69-1112-4058-A350-A76CA2F51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7630E-2D34-476E-AE90-76B5F32A0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CA963-BBE9-4D91-8497-C24D5E7A6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F1773-663F-4A94-8543-211B1D5EA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98F4-0ED1-4D28-BCCC-FDD9F7B9E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7194-6A2A-4608-98E2-EE970CD18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0D9FC-EEBD-4438-97A5-7C8B7D74A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9FD3-AE0C-4B99-A7FF-8EFCF22CB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Futura Md BT"/>
              </a:rPr>
              <a:t>Женщины-руководители в Библии</a:t>
            </a:r>
            <a:endParaRPr b="0" lang="en-US" sz="4400" spc="-1" strike="noStrike">
              <a:solidFill>
                <a:srgbClr val="000000"/>
              </a:solidFill>
              <a:latin typeface="Arial"/>
            </a:endParaRPr>
          </a:p>
        </p:txBody>
      </p:sp>
      <p:pic>
        <p:nvPicPr>
          <p:cNvPr id="52" name="" descr=""/>
          <p:cNvPicPr/>
          <p:nvPr/>
        </p:nvPicPr>
        <p:blipFill>
          <a:blip r:embed="rId2"/>
          <a:stretch/>
        </p:blipFill>
        <p:spPr>
          <a:xfrm>
            <a:off x="5292720" y="3963960"/>
            <a:ext cx="1008000" cy="689040"/>
          </a:xfrm>
          <a:prstGeom prst="rect">
            <a:avLst/>
          </a:prstGeom>
          <a:ln w="0">
            <a:noFill/>
          </a:ln>
        </p:spPr>
      </p:pic>
      <p:sp>
        <p:nvSpPr>
          <p:cNvPr id="53" name=""/>
          <p:cNvSpPr/>
          <p:nvPr/>
        </p:nvSpPr>
        <p:spPr>
          <a:xfrm>
            <a:off x="4284720" y="5013360"/>
            <a:ext cx="3403440" cy="16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Отдел женского служения Г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Сертификационная программа</a:t>
            </a:r>
            <a:r>
              <a:rPr b="0" lang="en-US" sz="2000" spc="-1" strike="noStrike">
                <a:solidFill>
                  <a:srgbClr val="ffffff"/>
                </a:solidFill>
                <a:latin typeface="Futura Md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Уровень</a:t>
            </a:r>
            <a:r>
              <a:rPr b="0" lang="en-US" sz="2000" spc="-1" strike="noStrike">
                <a:solidFill>
                  <a:srgbClr val="ffffff"/>
                </a:solidFill>
                <a:latin typeface="Futura Md BT"/>
              </a:rPr>
              <a:t> </a:t>
            </a:r>
            <a:r>
              <a:rPr b="0" lang="en-US" sz="2400" spc="-1" strike="noStrike">
                <a:solidFill>
                  <a:srgbClr val="ffffff"/>
                </a:solidFill>
                <a:latin typeface="Futura Md BT"/>
              </a:rPr>
              <a:t>4</a:t>
            </a:r>
            <a:endParaRPr b="0" lang="en-US" sz="2400" spc="-1" strike="noStrike">
              <a:solidFill>
                <a:srgbClr val="000000"/>
              </a:solidFill>
              <a:latin typeface="Arial"/>
            </a:endParaRPr>
          </a:p>
        </p:txBody>
      </p:sp>
      <p:sp>
        <p:nvSpPr>
          <p:cNvPr id="54" name=""/>
          <p:cNvSpPr/>
          <p:nvPr/>
        </p:nvSpPr>
        <p:spPr>
          <a:xfrm>
            <a:off x="3938040" y="2606760"/>
            <a:ext cx="373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Futura Md BT"/>
              </a:rPr>
              <a:t>Подготовлено Шерон Кре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764640"/>
            <a:ext cx="8229600" cy="452628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908000" y="693720"/>
            <a:ext cx="6275520" cy="1440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utura Md BT"/>
              </a:rPr>
              <a:t>Библейские примеры руководства</a:t>
            </a:r>
            <a:endParaRPr b="0" lang="en-US" sz="4000" spc="-1" strike="noStrike">
              <a:solidFill>
                <a:srgbClr val="000000"/>
              </a:solidFill>
              <a:latin typeface="Arial"/>
            </a:endParaRPr>
          </a:p>
        </p:txBody>
      </p:sp>
      <p:sp>
        <p:nvSpPr>
          <p:cNvPr id="81" name=""/>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959120" y="2205000"/>
            <a:ext cx="56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utura Md BT"/>
              </a:rPr>
              <a:t>Давайте теперь рассмотрим Библейские примеры руко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ru-RU" sz="3600" spc="-1" strike="noStrike">
                <a:solidFill>
                  <a:srgbClr val="333399"/>
                </a:solidFill>
                <a:latin typeface="Futura Md BT"/>
              </a:rPr>
              <a:t>История Деворы</a:t>
            </a:r>
            <a:r>
              <a:rPr b="1" lang="en-US" sz="3600" spc="-1" strike="noStrike">
                <a:solidFill>
                  <a:srgbClr val="333399"/>
                </a:solidFill>
                <a:latin typeface="Futura Md BT"/>
              </a:rPr>
              <a:t> </a:t>
            </a:r>
            <a:r>
              <a:rPr b="1" lang="en-US" sz="2800" spc="-1" strike="noStrike">
                <a:solidFill>
                  <a:srgbClr val="333399"/>
                </a:solidFill>
                <a:latin typeface="Futura Md BT"/>
              </a:rPr>
              <a:t>(</a:t>
            </a:r>
            <a:r>
              <a:rPr b="1" lang="ru-RU" sz="2800" spc="-1" strike="noStrike">
                <a:solidFill>
                  <a:srgbClr val="333399"/>
                </a:solidFill>
                <a:latin typeface="Futura Md BT"/>
              </a:rPr>
              <a:t>Судей</a:t>
            </a:r>
            <a:r>
              <a:rPr b="1" lang="en-US" sz="2800" spc="-1" strike="noStrike">
                <a:solidFill>
                  <a:srgbClr val="333399"/>
                </a:solidFill>
                <a:latin typeface="Futura Md BT"/>
              </a:rPr>
              <a:t> 4-5)</a:t>
            </a:r>
            <a:br>
              <a:rPr sz="3600"/>
            </a:br>
            <a:endParaRPr b="0" lang="en-US" sz="2800" spc="-1" strike="noStrike">
              <a:solidFill>
                <a:srgbClr val="000000"/>
              </a:solidFill>
              <a:latin typeface="Arial"/>
            </a:endParaRPr>
          </a:p>
        </p:txBody>
      </p:sp>
      <p:sp>
        <p:nvSpPr>
          <p:cNvPr id="85" name="PlaceHolder 2"/>
          <p:cNvSpPr>
            <a:spLocks noGrp="1"/>
          </p:cNvSpPr>
          <p:nvPr>
            <p:ph/>
          </p:nvPr>
        </p:nvSpPr>
        <p:spPr>
          <a:xfrm>
            <a:off x="755640" y="1566360"/>
            <a:ext cx="7345440" cy="4526280"/>
          </a:xfrm>
          <a:prstGeom prst="rect">
            <a:avLst/>
          </a:prstGeom>
          <a:noFill/>
          <a:ln w="0">
            <a:noFill/>
          </a:ln>
        </p:spPr>
        <p:txBody>
          <a:bodyPr lIns="90000" rIns="90000" tIns="46800" bIns="46800" anchor="t">
            <a:normAutofit fontScale="93000"/>
          </a:bodyPr>
          <a:p>
            <a:pPr marL="566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ru-RU" sz="3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9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 бы вы реагировали на месте Сисары? На месте Деворы? На месте Вара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го боялся Варак? Почему он не пошел без Деворы?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ru-RU" sz="3600" spc="-1" strike="noStrike">
                <a:solidFill>
                  <a:srgbClr val="333399"/>
                </a:solidFill>
                <a:latin typeface="Futura Md BT"/>
              </a:rPr>
              <a:t>История Олдам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4 Царств</a:t>
            </a:r>
            <a:r>
              <a:rPr b="1" lang="en-US" sz="2400" spc="-1" strike="noStrike">
                <a:solidFill>
                  <a:srgbClr val="333399"/>
                </a:solidFill>
                <a:latin typeface="Futura Md BT"/>
              </a:rPr>
              <a:t> 22:14-20; </a:t>
            </a:r>
            <a:r>
              <a:rPr b="1" lang="ru-RU" sz="2400" spc="-1" strike="noStrike">
                <a:solidFill>
                  <a:srgbClr val="333399"/>
                </a:solidFill>
                <a:latin typeface="Futura Md BT"/>
              </a:rPr>
              <a:t>2 Пар.</a:t>
            </a:r>
            <a:r>
              <a:rPr b="1" lang="en-US" sz="2400" spc="-1" strike="noStrike">
                <a:solidFill>
                  <a:srgbClr val="333399"/>
                </a:solidFill>
                <a:latin typeface="Futura Md BT"/>
              </a:rPr>
              <a:t> 34: 14-33)</a:t>
            </a:r>
            <a:endParaRPr b="0" lang="en-US" sz="2400" spc="-1" strike="noStrike">
              <a:solidFill>
                <a:srgbClr val="000000"/>
              </a:solidFill>
              <a:latin typeface="Arial"/>
            </a:endParaRPr>
          </a:p>
        </p:txBody>
      </p:sp>
      <p:sp>
        <p:nvSpPr>
          <p:cNvPr id="95" name="PlaceHolder 2"/>
          <p:cNvSpPr>
            <a:spLocks noGrp="1"/>
          </p:cNvSpPr>
          <p:nvPr>
            <p:ph/>
          </p:nvPr>
        </p:nvSpPr>
        <p:spPr>
          <a:xfrm>
            <a:off x="51912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0" name="PlaceHolder 2"/>
          <p:cNvSpPr>
            <a:spLocks noGrp="1"/>
          </p:cNvSpPr>
          <p:nvPr>
            <p:ph/>
          </p:nvPr>
        </p:nvSpPr>
        <p:spPr>
          <a:xfrm>
            <a:off x="539640" y="1412640"/>
            <a:ext cx="8229600" cy="5102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ru-RU" sz="4000" spc="-1" strike="noStrike">
                <a:solidFill>
                  <a:srgbClr val="333399"/>
                </a:solidFill>
                <a:latin typeface="Futura Md BT"/>
              </a:rPr>
              <a:t>История Мариам</a:t>
            </a:r>
            <a:br>
              <a:rPr sz="4000"/>
            </a:br>
            <a:r>
              <a:rPr b="1" lang="en-US" sz="2800" spc="-1" strike="noStrike">
                <a:solidFill>
                  <a:srgbClr val="333399"/>
                </a:solidFill>
                <a:latin typeface="Futura Md BT"/>
              </a:rPr>
              <a:t>(</a:t>
            </a:r>
            <a:r>
              <a:rPr b="1" lang="ru-RU" sz="2800" spc="-1" strike="noStrike">
                <a:solidFill>
                  <a:srgbClr val="333399"/>
                </a:solidFill>
                <a:latin typeface="Futura Md BT"/>
              </a:rPr>
              <a:t>Исх</a:t>
            </a:r>
            <a:r>
              <a:rPr b="1" lang="en-US" sz="2800" spc="-1" strike="noStrike">
                <a:solidFill>
                  <a:srgbClr val="333399"/>
                </a:solidFill>
                <a:latin typeface="Futura Md BT"/>
              </a:rPr>
              <a:t>. 2:1-10; 15:20-21; </a:t>
            </a:r>
            <a:r>
              <a:rPr b="1" lang="ru-RU" sz="2800" spc="-1" strike="noStrike">
                <a:solidFill>
                  <a:srgbClr val="333399"/>
                </a:solidFill>
                <a:latin typeface="Futura Md BT"/>
              </a:rPr>
              <a:t>Чис</a:t>
            </a:r>
            <a:r>
              <a:rPr b="1" lang="en-US" sz="2800" spc="-1" strike="noStrike">
                <a:solidFill>
                  <a:srgbClr val="333399"/>
                </a:solidFill>
                <a:latin typeface="Futura Md BT"/>
              </a:rPr>
              <a:t>. 21:1-15)</a:t>
            </a:r>
            <a:endParaRPr b="0" lang="en-US" sz="2800" spc="-1" strike="noStrike">
              <a:solidFill>
                <a:srgbClr val="000000"/>
              </a:solidFill>
              <a:latin typeface="Arial"/>
            </a:endParaRPr>
          </a:p>
        </p:txBody>
      </p:sp>
      <p:sp>
        <p:nvSpPr>
          <p:cNvPr id="103" name="PlaceHolder 2"/>
          <p:cNvSpPr>
            <a:spLocks noGrp="1"/>
          </p:cNvSpPr>
          <p:nvPr>
            <p:ph/>
          </p:nvPr>
        </p:nvSpPr>
        <p:spPr>
          <a:xfrm>
            <a:off x="590400" y="1998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6" name="PlaceHolder 2"/>
          <p:cNvSpPr>
            <a:spLocks noGrp="1"/>
          </p:cNvSpPr>
          <p:nvPr>
            <p:ph/>
          </p:nvPr>
        </p:nvSpPr>
        <p:spPr>
          <a:xfrm>
            <a:off x="610920" y="1495440"/>
            <a:ext cx="784836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764640"/>
            <a:ext cx="8229600" cy="565020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2800" spc="-1" strike="noStrike">
              <a:solidFill>
                <a:srgbClr val="00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659880"/>
            <a:ext cx="8229600" cy="57214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ru-RU" sz="3600" spc="-1" strike="noStrike">
                <a:solidFill>
                  <a:srgbClr val="333399"/>
                </a:solidFill>
                <a:latin typeface="Futura Md BT"/>
              </a:rPr>
              <a:t>История Мелхолы</a:t>
            </a:r>
            <a:br>
              <a:rPr sz="3600"/>
            </a:br>
            <a:r>
              <a:rPr b="1" lang="en-US" sz="2800" spc="-1" strike="noStrike">
                <a:solidFill>
                  <a:srgbClr val="333399"/>
                </a:solidFill>
                <a:latin typeface="Futura Md BT"/>
              </a:rPr>
              <a:t>(I </a:t>
            </a:r>
            <a:r>
              <a:rPr b="1" lang="ru-RU" sz="2800" spc="-1" strike="noStrike">
                <a:solidFill>
                  <a:srgbClr val="333399"/>
                </a:solidFill>
                <a:latin typeface="Futura Md BT"/>
              </a:rPr>
              <a:t>Цар</a:t>
            </a:r>
            <a:r>
              <a:rPr b="1" lang="en-US" sz="2800" spc="-1" strike="noStrike">
                <a:solidFill>
                  <a:srgbClr val="333399"/>
                </a:solidFill>
                <a:latin typeface="Futura Md BT"/>
              </a:rPr>
              <a:t>. 18:20-29; 19:11-17; </a:t>
            </a:r>
            <a:r>
              <a:rPr b="1" lang="ru-RU" sz="2800" spc="-1" strike="noStrike">
                <a:solidFill>
                  <a:srgbClr val="333399"/>
                </a:solidFill>
                <a:latin typeface="Futura Md BT"/>
              </a:rPr>
              <a:t>2 Цар.</a:t>
            </a:r>
            <a:r>
              <a:rPr b="1" lang="en-US" sz="2800" spc="-1" strike="noStrike">
                <a:solidFill>
                  <a:srgbClr val="333399"/>
                </a:solidFill>
                <a:latin typeface="Futura Md BT"/>
              </a:rPr>
              <a:t>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1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ru-RU" sz="3600" spc="-1" strike="noStrike">
                <a:solidFill>
                  <a:srgbClr val="333399"/>
                </a:solidFill>
                <a:latin typeface="Futura Md BT"/>
              </a:rPr>
              <a:t>История Прискилл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Деян.</a:t>
            </a:r>
            <a:r>
              <a:rPr b="1" lang="en-US" sz="2400" spc="-1" strike="noStrike">
                <a:solidFill>
                  <a:srgbClr val="333399"/>
                </a:solidFill>
                <a:latin typeface="Futura Md BT"/>
              </a:rPr>
              <a:t> 18-19; </a:t>
            </a:r>
            <a:r>
              <a:rPr b="1" lang="ru-RU" sz="2400" spc="-1" strike="noStrike">
                <a:solidFill>
                  <a:srgbClr val="333399"/>
                </a:solidFill>
                <a:latin typeface="Futura Md BT"/>
              </a:rPr>
              <a:t>Рим</a:t>
            </a:r>
            <a:r>
              <a:rPr b="1" lang="en-US" sz="2400" spc="-1" strike="noStrike">
                <a:solidFill>
                  <a:srgbClr val="333399"/>
                </a:solidFill>
                <a:latin typeface="Futura Md BT"/>
              </a:rPr>
              <a:t>. 16:3-4; I </a:t>
            </a:r>
            <a:r>
              <a:rPr b="1" lang="ru-RU" sz="2400" spc="-1" strike="noStrike">
                <a:solidFill>
                  <a:srgbClr val="333399"/>
                </a:solidFill>
                <a:latin typeface="Futura Md BT"/>
              </a:rPr>
              <a:t>Кор</a:t>
            </a:r>
            <a:r>
              <a:rPr b="1" lang="en-US" sz="2400" spc="-1" strike="noStrike">
                <a:solidFill>
                  <a:srgbClr val="333399"/>
                </a:solidFill>
                <a:latin typeface="Futura Md BT"/>
              </a:rPr>
              <a:t>. 16:19; II </a:t>
            </a:r>
            <a:r>
              <a:rPr b="1" lang="ru-RU" sz="2400" spc="-1" strike="noStrike">
                <a:solidFill>
                  <a:srgbClr val="333399"/>
                </a:solidFill>
                <a:latin typeface="Futura Md BT"/>
              </a:rPr>
              <a:t>Тим</a:t>
            </a:r>
            <a:r>
              <a:rPr b="1" lang="en-US" sz="2400" spc="-1" strike="noStrike">
                <a:solidFill>
                  <a:srgbClr val="333399"/>
                </a:solidFill>
                <a:latin typeface="Futura Md BT"/>
              </a:rPr>
              <a:t>. 4:19)</a:t>
            </a:r>
            <a:endParaRPr b="0" lang="en-US" sz="2400" spc="-1" strike="noStrike">
              <a:solidFill>
                <a:srgbClr val="000000"/>
              </a:solidFill>
              <a:latin typeface="Arial"/>
            </a:endParaRPr>
          </a:p>
        </p:txBody>
      </p:sp>
      <p:sp>
        <p:nvSpPr>
          <p:cNvPr id="123" name="PlaceHolder 2"/>
          <p:cNvSpPr>
            <a:spLocks noGrp="1"/>
          </p:cNvSpPr>
          <p:nvPr>
            <p:ph/>
          </p:nvPr>
        </p:nvSpPr>
        <p:spPr>
          <a:xfrm>
            <a:off x="519120" y="20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4759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Характерные особенности женщин в Библии</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глуп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слаб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неуравновеш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абсолютно не привлекатель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26" name="PlaceHolder 2"/>
          <p:cNvSpPr>
            <a:spLocks noGrp="1"/>
          </p:cNvSpPr>
          <p:nvPr>
            <p:ph/>
          </p:nvPr>
        </p:nvSpPr>
        <p:spPr>
          <a:xfrm>
            <a:off x="395280" y="1600200"/>
            <a:ext cx="8137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57200" y="1052640"/>
            <a:ext cx="77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23640" y="919080"/>
            <a:ext cx="85071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27236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Рааф, женщину легкого поведен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95280" y="1062000"/>
            <a:ext cx="82296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Контрасты истории</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Irina Romashkina</cp:lastModifiedBy>
  <dcterms:modified xsi:type="dcterms:W3CDTF">2008-01-14T11:19:11Z</dcterms:modified>
  <cp:revision>23</cp:revision>
  <dc:subject/>
  <dc:title>Slide 1</dc:title>
</cp:coreProperties>
</file>